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83AE-5F5A-491A-B4AA-DD1999AAA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44F5-ED74-45D9-9546-78D33B7AA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27C6-F2D3-46A4-822B-D4EF8C7BD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633E-6DAD-4C84-A7AA-160AAD88F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808DE-CAA7-42BC-A136-1CFE6CFC2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8ECDE-44D6-403B-B82B-82D3AF566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5A62C-B872-47F9-8D8C-80D817E3A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0E35E-00E9-4A5F-AA12-32A95AFBA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21A02-CB99-4C45-940B-92D173281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C4F28-358B-445D-AF56-46D2EF4A9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F1328-2ABD-4A45-A66E-AE6F0057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ADE8-FB41-4300-A1D6-DC398B670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48509-6A4D-4339-942D-C733B7F7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88A72-1EA2-4716-9A25-BCB5A305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CD531-3831-4A94-8622-E178365F3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17379-395C-4328-8CB5-5704DE195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446BD-3FD1-4318-B4C7-AB2305E16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8665E-331E-47B4-8332-86269D0FD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A2F81-9188-4D66-AB92-F2D06FAEA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03355-1435-4298-AFD7-AFCCC293B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8E4C9-A609-47A0-9F02-9EBBCA6F9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24A24-3111-4A5D-A79A-B33C9D028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8E1D-7D6B-4D9C-A215-979CA70DF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7510E-130A-4DE2-B7BD-AE8103F0C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2BA5B-9DAA-4D25-874B-81DA2D34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96C18-167E-42EB-8CF1-5984D488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8CD76-FECD-47DA-BDBD-6523C69C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4861A-7DB7-4C8C-A408-E6C9CE48C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53AB3-D913-4C69-936E-26A1B4D90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1BB33-BF5B-48C3-8A91-635B9B5E5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EC19C-0F30-444C-BA9C-256A7C960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22F1D-644F-4F4D-93CC-9A5A27FCC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2891A-32B7-4801-8E70-D2BA16D2D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9236-F7CE-451B-91C7-3EB2C958B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8E5E7-A498-4981-AE5D-7371F8477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5266B-CF08-4BCB-AB21-E64581593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9C676-E9F6-4E69-8731-65B66A1DB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0BE81-9BC7-4350-99E0-E7B0FC51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44E5F-3A0B-4CF3-86DD-D563C7A9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31CB7-7491-4491-87E6-3F719B2E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6D5F8-7434-4BFC-ADC7-44C8354E2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62FF9-1E90-4BB7-84B4-1238D32B2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592B7-7097-4D72-A3AA-4AA3C444B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75718-2F7B-4671-9D0F-C19151E91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B1D4-A630-4C26-B758-E3E109B6A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1B274-DE10-46ED-99DF-10A775A15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2F673-B470-429C-93E0-239CD4F90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3B929-2ED4-40EA-ABAC-E8E817C4E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B4DEC-B33B-435C-82E6-8C338E111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2FA69-FD02-4412-AB4F-736607058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2DC72-D1A9-4C54-A797-632E5F90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769FF-3E76-45CB-AB73-14E1C778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649C3-0570-4AB8-8ACD-F679402B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9E602-5ACB-4843-83C0-E5866602D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CD967-E9AC-4A05-AB34-317BFAC12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7B08-B142-4D38-8953-74C86C1ED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15293-163A-4176-8ECA-07DF499F6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F8A2-4EC0-4BE4-B2A4-B53F4F8E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FBD1-6AA8-4977-8DF5-0550E6FA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A9F4-094C-4C71-B0B3-E03074DA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5A1BD-1ED4-47B5-8892-0C3E30885551}" type="slidenum">
              <a:rPr b="0" lang="es-E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CF094-6951-4CB9-A67A-6AE771079AF5}" type="slidenum">
              <a:rPr b="0" lang="es-E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FB29C-8051-4E7E-9D84-281815AD97E7}" type="slidenum">
              <a:rPr b="0" lang="es-E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43434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226AE-4A77-41A7-B2D7-0E89DD2B0D7F}" type="slidenum">
              <a:rPr b="0" lang="es-ES" sz="1600" spc="-1" strike="noStrike">
                <a:solidFill>
                  <a:srgbClr val="434342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CA589-7F87-4A4F-9BD2-AF38E5ACE662}" type="slidenum">
              <a:rPr b="0" lang="es-E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5" descr="673x6731245782170_flatolabia1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7096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6"/>
          <p:cNvSpPr/>
          <p:nvPr/>
        </p:nvSpPr>
        <p:spPr>
          <a:xfrm>
            <a:off x="2627280" y="364500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Explicamos imáge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5 CuadroTexto"/>
          <p:cNvSpPr/>
          <p:nvPr/>
        </p:nvSpPr>
        <p:spPr>
          <a:xfrm>
            <a:off x="5580000" y="981000"/>
            <a:ext cx="280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Reflejamos lo que hemos aprendi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2" descr="Reloj"/>
          <p:cNvPicPr/>
          <p:nvPr/>
        </p:nvPicPr>
        <p:blipFill>
          <a:blip r:embed="rId2"/>
          <a:stretch/>
        </p:blipFill>
        <p:spPr>
          <a:xfrm>
            <a:off x="3564000" y="486900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13"/>
          <p:cNvSpPr/>
          <p:nvPr/>
        </p:nvSpPr>
        <p:spPr>
          <a:xfrm>
            <a:off x="5076720" y="5157720"/>
            <a:ext cx="35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4"/>
          <p:cNvSpPr/>
          <p:nvPr/>
        </p:nvSpPr>
        <p:spPr>
          <a:xfrm>
            <a:off x="5435640" y="5445000"/>
            <a:ext cx="28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1 hora 30 minu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5" descr="1290942693542"/>
          <p:cNvPicPr/>
          <p:nvPr/>
        </p:nvPicPr>
        <p:blipFill>
          <a:blip r:embed="rId1"/>
          <a:stretch/>
        </p:blipFill>
        <p:spPr>
          <a:xfrm>
            <a:off x="0" y="0"/>
            <a:ext cx="4714920" cy="31431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calle"/>
          <p:cNvPicPr/>
          <p:nvPr/>
        </p:nvPicPr>
        <p:blipFill>
          <a:blip r:embed="rId2"/>
          <a:stretch/>
        </p:blipFill>
        <p:spPr>
          <a:xfrm>
            <a:off x="4429080" y="0"/>
            <a:ext cx="4714920" cy="3638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9" descr="17_img"/>
          <p:cNvPicPr/>
          <p:nvPr/>
        </p:nvPicPr>
        <p:blipFill>
          <a:blip r:embed="rId3"/>
          <a:stretch/>
        </p:blipFill>
        <p:spPr>
          <a:xfrm>
            <a:off x="0" y="3141720"/>
            <a:ext cx="3691080" cy="37162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1" descr="Medieval_baker"/>
          <p:cNvPicPr/>
          <p:nvPr/>
        </p:nvPicPr>
        <p:blipFill>
          <a:blip r:embed="rId4"/>
          <a:stretch/>
        </p:blipFill>
        <p:spPr>
          <a:xfrm>
            <a:off x="2771640" y="2997360"/>
            <a:ext cx="4105440" cy="25365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3" descr="y1pQbTqW0dw3lMnrVsTOw2LV1hT82w_15CjjECKskAKW7irHh9MyMuRRJM_Xfh573fLqIAEdoyvk1o"/>
          <p:cNvPicPr/>
          <p:nvPr/>
        </p:nvPicPr>
        <p:blipFill>
          <a:blip r:embed="rId5"/>
          <a:stretch/>
        </p:blipFill>
        <p:spPr>
          <a:xfrm>
            <a:off x="6372360" y="3573360"/>
            <a:ext cx="2771640" cy="2754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5" descr="1"/>
          <p:cNvPicPr/>
          <p:nvPr/>
        </p:nvPicPr>
        <p:blipFill>
          <a:blip r:embed="rId6"/>
          <a:stretch/>
        </p:blipFill>
        <p:spPr>
          <a:xfrm>
            <a:off x="3564000" y="5019840"/>
            <a:ext cx="248580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1 CuadroTexto"/>
          <p:cNvSpPr/>
          <p:nvPr/>
        </p:nvSpPr>
        <p:spPr>
          <a:xfrm>
            <a:off x="1258920" y="260280"/>
            <a:ext cx="6553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c3e3f"/>
                </a:solidFill>
                <a:latin typeface="Arial"/>
              </a:rPr>
              <a:t>LOS GREM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d0d0d"/>
                </a:solidFill>
                <a:latin typeface="Arial"/>
              </a:rPr>
              <a:t>En la baja edad media, tanto la agricultura como el comercio mejoraron debido a una buena temporada de cosechas. Las cosechas fueron abundantes, hubo </a:t>
            </a:r>
            <a:r>
              <a:rPr b="0" lang="es-ES" sz="2800" spc="-1" strike="noStrike" u="sng">
                <a:solidFill>
                  <a:srgbClr val="0d0d0d"/>
                </a:solidFill>
                <a:uFillTx/>
                <a:latin typeface="Arial"/>
              </a:rPr>
              <a:t>excedentes</a:t>
            </a:r>
            <a:r>
              <a:rPr b="0" lang="es-ES" sz="2800" spc="-1" strike="noStrike">
                <a:solidFill>
                  <a:srgbClr val="0d0d0d"/>
                </a:solidFill>
                <a:latin typeface="Arial"/>
              </a:rPr>
              <a:t> y los campesinos se dedicaron al comercio. </a:t>
            </a:r>
            <a:r>
              <a:rPr b="0" lang="es-ES" sz="2800" spc="-1" strike="noStrike" u="sng">
                <a:solidFill>
                  <a:srgbClr val="0d0d0d"/>
                </a:solidFill>
                <a:uFillTx/>
                <a:latin typeface="Arial"/>
              </a:rPr>
              <a:t>El gremio </a:t>
            </a:r>
            <a:r>
              <a:rPr b="0" lang="es-ES" sz="2800" spc="-1" strike="noStrike">
                <a:solidFill>
                  <a:srgbClr val="0d0d0d"/>
                </a:solidFill>
                <a:latin typeface="Arial"/>
              </a:rPr>
              <a:t>es una agrupación de artesanos del mismo oficio que se ocupaban del cumplimiento de las normas para que los productos fabricados tengan una mejor calidad.</a:t>
            </a:r>
            <a:r>
              <a:rPr b="0" lang="es-ES" sz="2800" spc="-1" strike="noStrike">
                <a:solidFill>
                  <a:srgbClr val="00b0f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scriptorium"/>
          <p:cNvPicPr/>
          <p:nvPr/>
        </p:nvPicPr>
        <p:blipFill>
          <a:blip r:embed="rId1"/>
          <a:stretch/>
        </p:blipFill>
        <p:spPr>
          <a:xfrm>
            <a:off x="684360" y="1700280"/>
            <a:ext cx="3429000" cy="36320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20070712klphishes_3_Ges_SCO"/>
          <p:cNvPicPr/>
          <p:nvPr/>
        </p:nvPicPr>
        <p:blipFill>
          <a:blip r:embed="rId2"/>
          <a:stretch/>
        </p:blipFill>
        <p:spPr>
          <a:xfrm>
            <a:off x="4788000" y="1628640"/>
            <a:ext cx="377172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1 CuadroTexto"/>
          <p:cNvSpPr/>
          <p:nvPr/>
        </p:nvSpPr>
        <p:spPr>
          <a:xfrm>
            <a:off x="539640" y="549360"/>
            <a:ext cx="7848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0000"/>
                </a:solidFill>
                <a:latin typeface="Arial"/>
              </a:rPr>
              <a:t>MONJES COPISTAS(COPIA DE LIBRO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0000"/>
                </a:solidFill>
                <a:latin typeface="Arial"/>
              </a:rPr>
              <a:t>Los monjes se dedicaban a copiar libros y también a traducirlos en otro idioma. Aquellos libros estaban muy decorados y tenían la primera letra del libro o capítulo muy adornado, por ello, los monasterios eran conocidos como un centro de cultur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5" descr="peregrinos"/>
          <p:cNvPicPr/>
          <p:nvPr/>
        </p:nvPicPr>
        <p:blipFill>
          <a:blip r:embed="rId1"/>
          <a:stretch/>
        </p:blipFill>
        <p:spPr>
          <a:xfrm>
            <a:off x="1619280" y="620640"/>
            <a:ext cx="611964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2 CuadroTexto"/>
          <p:cNvSpPr/>
          <p:nvPr/>
        </p:nvSpPr>
        <p:spPr>
          <a:xfrm>
            <a:off x="971640" y="836640"/>
            <a:ext cx="7345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030a0"/>
                </a:solidFill>
                <a:latin typeface="Arial"/>
              </a:rPr>
              <a:t>EL CAMINO DE SANTI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030a0"/>
                </a:solidFill>
                <a:latin typeface="Arial"/>
              </a:rPr>
              <a:t>El camino de Santiago es una ruta que recorren los peregrinos procedentes de todo el mundo para llegar a la ciudad de Santiago de Compostela, donde se veneran las reliquias del apóstol Santiago el Mayor. Se hacía de forma voluntaria y durante toda la Edad Media fue muy concurrido, después fue ligeramente olvidado y en la actualidad ha vuelto a tomar un gran au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5" descr="A_073_Hierarchy"/>
          <p:cNvPicPr/>
          <p:nvPr/>
        </p:nvPicPr>
        <p:blipFill>
          <a:blip r:embed="rId1"/>
          <a:stretch/>
        </p:blipFill>
        <p:spPr>
          <a:xfrm>
            <a:off x="755640" y="476280"/>
            <a:ext cx="4608360" cy="31924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piramide-feudal"/>
          <p:cNvPicPr/>
          <p:nvPr/>
        </p:nvPicPr>
        <p:blipFill>
          <a:blip r:embed="rId2"/>
          <a:stretch/>
        </p:blipFill>
        <p:spPr>
          <a:xfrm>
            <a:off x="5651640" y="2637000"/>
            <a:ext cx="316224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2 CuadroTexto"/>
          <p:cNvSpPr/>
          <p:nvPr/>
        </p:nvSpPr>
        <p:spPr>
          <a:xfrm>
            <a:off x="1042920" y="549360"/>
            <a:ext cx="7309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b050"/>
                </a:solidFill>
                <a:latin typeface="Arial"/>
              </a:rPr>
              <a:t>LA PIRÁMIDE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b050"/>
                </a:solidFill>
                <a:latin typeface="Arial"/>
              </a:rPr>
              <a:t>La pirámide social de la edad media se diferenciaba en dos grup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b050"/>
                </a:solidFill>
                <a:latin typeface="Arial"/>
              </a:rPr>
              <a:t>-Los privilegiados: lo formaban la minoría de la población como el rey, los nobles y el clero, aquellos no tenían que pagar impue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b050"/>
                </a:solidFill>
                <a:latin typeface="Arial"/>
              </a:rPr>
              <a:t>-Los no privilegiados: lo formaban la mayoría de la población que eran los campesinos y los artesanos. Ellos tenían que pagar impuestos y además un diezmo para los monj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b050"/>
                </a:solidFill>
                <a:latin typeface="Arial"/>
              </a:rPr>
              <a:t>En la baja edad media surgen un nuevo grupo social que es la burguesí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5T08:35:44Z</dcterms:created>
  <dc:creator>IR015252AG</dc:creator>
  <dc:description/>
  <dc:language>en-US</dc:language>
  <cp:lastModifiedBy>Tekno Ikaslea-Xose1</cp:lastModifiedBy>
  <dcterms:modified xsi:type="dcterms:W3CDTF">2014-02-24T13:44:23Z</dcterms:modified>
  <cp:revision>17</cp:revision>
  <dc:subject/>
  <dc:title>Diapositiva 1</dc:title>
</cp:coreProperties>
</file>